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523A-2F72-4466-9863-F9C0810A4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1510-A115-4B09-A512-3B61EC77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31ED-A2DA-47C1-9B14-74116C611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E0BC-E36B-4B89-B2FC-A291C496B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D5E7-6894-4D5F-A74F-9978F0C3B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15C3-DA01-4723-8045-58FCD077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C863-8EC8-461F-8516-987F1BF9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7ABB-227B-4A7C-9B67-06448D6B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4E20-C6B5-417B-AF67-D762FEC9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2A69-5AC8-4EFE-88B7-F373CFAB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D1A8-FEF7-404C-9826-C51E7D9A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0ABF-8F5E-446A-9F2B-F0931DD3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33D8-9726-4506-B1EA-52CEA852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C397-75EB-4DF9-9C75-B669D74B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8536-4ED2-429C-9824-F3925CE1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B5AF-0000-4C56-8E40-5CE339296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8B35-84ED-4979-98F4-6162ABCA9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A27E-9DA8-4D85-8C19-D35846EF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1989-3487-469C-90EE-54941725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0727-4E31-4E69-B4D7-F14C74DF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9A43-2EB1-4E27-AB88-2F2204F3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BBA4-BDBD-40FB-8946-58832A4F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2504-0453-4A91-BBF3-D189B93D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779F-36D0-4135-A679-448E1838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9174-568B-46DB-B37D-17E8984A1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8534520" y="0"/>
            <a:ext cx="44928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" name="" descr=""/>
          <p:cNvPicPr/>
          <p:nvPr/>
        </p:nvPicPr>
        <p:blipFill>
          <a:blip r:embed="rId4"/>
          <a:srcRect l="20416" t="0" r="0" b="0"/>
          <a:stretch/>
        </p:blipFill>
        <p:spPr>
          <a:xfrm>
            <a:off x="0" y="0"/>
            <a:ext cx="2971800" cy="9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5781-1BD3-47FE-A47F-7B147FC61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3040" y="965160"/>
            <a:ext cx="3240" cy="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6280" y="1809720"/>
            <a:ext cx="58680" cy="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7080" y="5270400"/>
            <a:ext cx="324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52280" y="0"/>
            <a:ext cx="44928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Me llamo _____________       Clase 7IM</a:t>
            </a:r>
            <a:br>
              <a:rPr sz="3600"/>
            </a:b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La fecha es el 5 de octubre del 2011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320" y="1447560"/>
            <a:ext cx="8686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Propósito # 7: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Cómo repasamos para la prueba del vier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Actividad Inicial: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pia y respo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Te interesa la histor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Te aburre la geografí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Te gusta la biologí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Te interesa la educación físi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Te aburren las matemátic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Te gustan las cienci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- Conjuga los verbos de BO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6320" y="1295280"/>
          <a:ext cx="8458200" cy="5657760"/>
        </p:xfrm>
        <a:graphic>
          <a:graphicData uri="http://schemas.openxmlformats.org/drawingml/2006/table">
            <a:tbl>
              <a:tblPr/>
              <a:tblGrid>
                <a:gridCol w="1828800"/>
                <a:gridCol w="2590560"/>
                <a:gridCol w="1752840"/>
                <a:gridCol w="2286000"/>
              </a:tblGrid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en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o understa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otro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l ella 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os ellas Ud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nt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o fee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sotr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l ella 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os ellas Ud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76320" y="1066680"/>
          <a:ext cx="8458200" cy="5658120"/>
        </p:xfrm>
        <a:graphic>
          <a:graphicData uri="http://schemas.openxmlformats.org/drawingml/2006/table">
            <a:tbl>
              <a:tblPr/>
              <a:tblGrid>
                <a:gridCol w="1828800"/>
                <a:gridCol w="2590560"/>
                <a:gridCol w="1752840"/>
                <a:gridCol w="2286000"/>
              </a:tblGrid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g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o pla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otro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l ella 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os ellas Ud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o count/tel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sotr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l ella 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os ellas Ud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I-Copia y completa con la forma correc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Yo no _________ los libros. (per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arco _________ mas tareas. (quer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icardo me __________ a llamar (volv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osotros __________ estudiar mas (po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rlos y Rosa ___________a las nueve. (dormi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ú ___________ mucho. (menti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osotros ____________ béisbol. (jug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Yo _________ la historia. (cont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Times New Roman"/>
              </a:rPr>
              <a:t>III-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mplete with the correct form of the ver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ena ____________ a jugar a las dos. (empez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Yo ________ en el equipo de futbol. (jug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osotros _________ mirar el juego de baloncesto. (preferi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s equipos no _________ perder. (quer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o, un equipo siempre ________. (per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ú ________ a casa para mirar el partido en la tele. (volv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22:59:11Z</dcterms:created>
  <dc:creator>Helen Zumaeta</dc:creator>
  <dc:description/>
  <dc:language>en-US</dc:language>
  <cp:lastModifiedBy>Helen Zumaeta</cp:lastModifiedBy>
  <dcterms:modified xsi:type="dcterms:W3CDTF">2011-10-07T20:30:58Z</dcterms:modified>
  <cp:revision>6</cp:revision>
  <dc:subject/>
  <dc:title>Me llamo _____________       Clase 7IM La fecha es el 28 de septiembre del 2011 </dc:title>
</cp:coreProperties>
</file>